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EDF7-3127-43E8-AEEF-F069AFEC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F09-233B-4512-9EBD-63DD2CA9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779-F402-4260-9811-6B8D5A90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A40C-1802-4664-B97B-CBE8269B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4A5-21C3-40A0-B8BB-E4598DD4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C417-0670-47DA-A6C4-BED9AB7C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8895-89A2-42E1-99F3-5BFF70AE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1A7B-7603-43B2-8541-E507F437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4B2-4927-4CC7-AD79-9B94223C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592-2D2C-4C5C-AD4F-6F41FE07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9497-9BC1-4B48-9F6D-15AD2DDE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D9C-90A3-439E-A37D-A3559635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A664-EDCC-4C4F-9D9F-1630678851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6" descr="http://www.buzzle.com/images/geography/oasi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is a place in the desert made fertile by a steady supply of water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6858000" y="3352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76320" y="-387360"/>
            <a:ext cx="11714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76320" y="-281160"/>
            <a:ext cx="14666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76320" y="-281160"/>
            <a:ext cx="14666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4"/>
          <p:cNvSpPr/>
          <p:nvPr/>
        </p:nvSpPr>
        <p:spPr>
          <a:xfrm>
            <a:off x="76320" y="-281160"/>
            <a:ext cx="14666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0" descr="http://www.ecardmedia.eu/data/media/49/Brooks%20Mountain%20Range,%20Alask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a series of connected mountain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Mountain R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76320" y="-471600"/>
            <a:ext cx="12859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76320" y="-471600"/>
            <a:ext cx="12859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76320" y="-471600"/>
            <a:ext cx="12859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2"/>
          <p:cNvSpPr/>
          <p:nvPr/>
        </p:nvSpPr>
        <p:spPr>
          <a:xfrm>
            <a:off x="76320" y="-471600"/>
            <a:ext cx="12859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4"/>
          <p:cNvSpPr/>
          <p:nvPr/>
        </p:nvSpPr>
        <p:spPr>
          <a:xfrm>
            <a:off x="76320" y="-471600"/>
            <a:ext cx="12859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76320" y="-471600"/>
            <a:ext cx="12859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8"/>
          <p:cNvSpPr/>
          <p:nvPr/>
        </p:nvSpPr>
        <p:spPr>
          <a:xfrm>
            <a:off x="76320" y="-471600"/>
            <a:ext cx="12859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zeb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similar between plateau ,mesa , but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3581280" y="3429000"/>
            <a:ext cx="1219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762120" y="23623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utte is the smallest and the mesa is the medium and the plateau is he bigg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rapezoid 10"/>
          <p:cNvSpPr/>
          <p:nvPr/>
        </p:nvSpPr>
        <p:spPr>
          <a:xfrm>
            <a:off x="0" y="4267080"/>
            <a:ext cx="2666880" cy="2590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l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rapezoid 13"/>
          <p:cNvSpPr/>
          <p:nvPr/>
        </p:nvSpPr>
        <p:spPr>
          <a:xfrm>
            <a:off x="3352680" y="4724280"/>
            <a:ext cx="2286000" cy="21304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rapezoid 14"/>
          <p:cNvSpPr/>
          <p:nvPr/>
        </p:nvSpPr>
        <p:spPr>
          <a:xfrm>
            <a:off x="6781680" y="5334120"/>
            <a:ext cx="1752840" cy="1523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difference between a Gulf and a Ba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838080" y="25909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ulf is bigger than a b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http://www.globalsecurity.org/military/facility/images/guantanamo-bay001.jpg"/>
          <p:cNvPicPr/>
          <p:nvPr/>
        </p:nvPicPr>
        <p:blipFill>
          <a:blip r:embed="rId1"/>
          <a:stretch/>
        </p:blipFill>
        <p:spPr>
          <a:xfrm>
            <a:off x="0" y="3276720"/>
            <a:ext cx="4495680" cy="3581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http://c1.planetsave.com/files/2010/06/gulf-of-mexico-beach-photos.jpg"/>
          <p:cNvPicPr/>
          <p:nvPr/>
        </p:nvPicPr>
        <p:blipFill>
          <a:blip r:embed="rId2"/>
          <a:stretch/>
        </p:blipFill>
        <p:spPr>
          <a:xfrm>
            <a:off x="4495680" y="3286080"/>
            <a:ext cx="4648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difference between a river and a lak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990720" y="2590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iver is smaller than a l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76320" y="-471600"/>
            <a:ext cx="14763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8" descr="http://ak.water.usgs.gov/yukon/images/front/CharleyRiverAtYukon1.jpg"/>
          <p:cNvPicPr/>
          <p:nvPr/>
        </p:nvPicPr>
        <p:blipFill>
          <a:blip r:embed="rId2"/>
          <a:stretch/>
        </p:blipFill>
        <p:spPr>
          <a:xfrm>
            <a:off x="0" y="365760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Lake Tahoe"/>
          <p:cNvPicPr/>
          <p:nvPr/>
        </p:nvPicPr>
        <p:blipFill>
          <a:blip r:embed="rId3"/>
          <a:stretch/>
        </p:blipFill>
        <p:spPr>
          <a:xfrm>
            <a:off x="4419720" y="3657600"/>
            <a:ext cx="4724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http://pic.templetons.com/brad/photo/death-valley/carrizo/IMG_12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Edwardian Script ITC"/>
              </a:rPr>
              <a:t>What is a  large area of flat or nearly flat land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dwardian Script ITC"/>
              </a:rPr>
              <a:t>Pl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76320" y="-539640"/>
            <a:ext cx="1657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" descr="http://www.wayfaring.info/wp-content/uploads/2008/07/clifton-beach-cape-tow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86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ladimir Script"/>
              </a:rPr>
              <a:t>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eestyle Script"/>
              </a:rPr>
              <a:t> </a:t>
            </a:r>
            <a:r>
              <a:rPr b="0" lang="en-US" sz="4000" spc="-1" strike="noStrike">
                <a:solidFill>
                  <a:srgbClr val="95b3d7"/>
                </a:solidFill>
                <a:latin typeface="Freestyle Script"/>
              </a:rPr>
              <a:t>What is a point of land that extends into a river, lake, or ocea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76320" y="-547560"/>
            <a:ext cx="14857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4" descr="http://allkindsofhistory.files.wordpress.com/2011/05/157086xcitefun-crater-lak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7030a0"/>
                </a:solidFill>
                <a:latin typeface="Lucida Handwriting"/>
              </a:rPr>
              <a:t>What is a  place where a river begin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cde5"/>
                </a:solidFill>
                <a:latin typeface="Viner Hand ITC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6320" y="-517680"/>
            <a:ext cx="14097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76320" y="-517680"/>
            <a:ext cx="14097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76320" y="-517680"/>
            <a:ext cx="14097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Vladimir Script"/>
              </a:rPr>
              <a:t>What is a mountain created as liquid rock and ash erupt from the inside the earth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http://t2.gstatic.com/images?q=tbn:ANd9GcQeKy2txvLAA5R1XS1lfDzWvv_o7wlqBlAj2T1hvw1tLKpC7M-6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volc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http://www.traveladventures.org/continents/africa/images/hamm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ac090"/>
                </a:solidFill>
                <a:latin typeface="Agency FB"/>
              </a:rPr>
              <a:t>What is  high, flat landform that rises steeply above the surrounding lan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Pl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76320" y="-898560"/>
            <a:ext cx="2466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http://www.geo.uu.nl/fg/palaeogeography/pictures/delta_evolution/delta.jpg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9bbb59"/>
                </a:solidFill>
                <a:latin typeface="Calibri"/>
              </a:rPr>
              <a:t>What is a Flat, low-lying land built up from soil carried downstream by a river and deposited at its mouth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7720" y="3276360"/>
            <a:ext cx="35053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cde5"/>
                </a:solidFill>
                <a:latin typeface="Times New Roman"/>
              </a:rPr>
              <a:t>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http://patagonialearning.com/Images/San_Rafael/Glaci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 huge sheet of ice that moves slowly across the land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http://t3.gstatic.com/images?q=tbn:ANd9GcSJN_0DClwgGStORPxv0lRKC31JsJIEmbbfk7vgsaSPNteJHQdA"/>
          <p:cNvPicPr/>
          <p:nvPr/>
        </p:nvPicPr>
        <p:blipFill>
          <a:blip r:embed="rId1"/>
          <a:stretch/>
        </p:blipFill>
        <p:spPr>
          <a:xfrm>
            <a:off x="0" y="-849240"/>
            <a:ext cx="9372600" cy="7707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is a  very dry area where few plants grow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28T20:08:11Z</dcterms:modified>
  <cp:revision>30</cp:revision>
  <dc:subject/>
  <dc:title>PowerPoint Presentation</dc:title>
</cp:coreProperties>
</file>